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9DE1-9701-4835-9E11-F71AE6C6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6010-917C-4694-BA82-2509C4A4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05CF-0E36-4E2C-B9C1-5507B719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AE77-9597-401C-8D5F-55886101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E3C-82D1-4ED5-93A0-17529882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C87-41FE-452B-B772-3194AFB4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3A9E-DC39-4547-BA1D-D980F79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2015-606C-4034-9719-9B722C99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81C7-604E-4929-B0CA-8AFA964C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27F-847D-498E-A0F9-920102F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FF1A-5D06-41AD-8E77-11405F1E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2FDB-D969-4481-A118-BDF44B3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F5E7-2CFC-4C66-8CB2-81B7CB6A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4BD4-ED5E-4A66-A639-3CC8904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BAC7-C10C-42A0-8883-EE49E23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FA0C-7509-482C-A596-5829619E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39E7-6C1B-48CE-8A7A-38902E32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33AB-5E3C-4E35-8AB0-663883CD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E0F7-0833-456F-88C1-6EE6CB41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6895-AA42-4962-9609-BB4CA59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BE8F-5A97-4239-BBF4-971C84F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39A7-A28A-470D-B6B0-437F507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8CE7-B442-415E-AE14-FC03375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5166-3CB4-46DB-B9C2-0F764B2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E70B-53E7-4095-9C4B-623A83577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C997-ED6D-4B6E-97C1-7CDBE0BEBA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mpact of Diet on Healt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or ate mainly whole grains and veget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tein sources: whole grain wheat, cheese and eg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t lacked Vitamin A and C before harvest led to scurv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ch ate mainly me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d not eat veget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t lacked Vitamin A and C also led to Gou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ddle class had most nutritionally balanced di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e meat and dairy regularly but still ate vegetabl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nges in Di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asants diet more varied in England and Low Count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crop from the Americas- the pot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tained vitamin A and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uld be harvested during the win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calorie yield per acre than gr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reland first to farm them- had little la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ing of potatoes spread slow but widespread by end of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believed potatoes were not edib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0574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nges in Die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gardening gr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mitropical fruit seeds available in coastal c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England white bread is made for the rich instead of whole gr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d little nutritional value and lacked vitam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gar consumption increased by ri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ices dropped due to slave labor in the Americ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d to more cavities and tooth deca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pillsbury_doughboy.jpg PILSBURY image by JellyLovesJelly"/>
          <p:cNvPicPr/>
          <p:nvPr/>
        </p:nvPicPr>
        <p:blipFill>
          <a:blip r:embed="rId1"/>
          <a:stretch/>
        </p:blipFill>
        <p:spPr>
          <a:xfrm>
            <a:off x="6657840" y="3200400"/>
            <a:ext cx="18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16Z</dcterms:created>
  <dc:creator>MNS</dc:creator>
  <dc:description/>
  <dc:language>en-US</dc:language>
  <cp:lastModifiedBy>MNS</cp:lastModifiedBy>
  <dcterms:modified xsi:type="dcterms:W3CDTF">2009-12-07T14:51:57Z</dcterms:modified>
  <cp:revision>6</cp:revision>
  <dc:subject/>
  <dc:title>Impact of Diet on Health</dc:title>
</cp:coreProperties>
</file>